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476FF5-EF1A-4794-8460-AC9FA26BB9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6EB30A-1F17-41C5-A9C0-89D94E7004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89280C-F6AC-4B53-9A2D-F4E1CAC771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170539-2190-458D-863A-48373DCA89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9A1293-D3C1-437A-B31B-FA670F1BC0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01EE09-4C3D-450F-9758-2E4627C5AC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58A980-7621-4E9C-BD87-91EDB15B66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87D348-D0A0-41C4-B2FF-3B73F0D454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4DE3DD-6F0C-418D-A690-9E8F2838E7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C540F4-836F-4762-9265-FE27407E5D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9F3D86-091B-4A30-AB2B-947F37FDB0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2D4331-789F-4128-97D3-AA7498C533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90BB5B-32FE-4677-81C2-E13EE8C4AC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29167F-8E9D-434D-B750-E4538CBFF6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781136-E2A3-4084-BD42-E934E2ABC7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E21B8F-BE73-4795-80BC-02FCC6B111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697C70-3A77-4AF4-A57C-048E40C696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33AE02-9A46-44B2-9071-5C5E63093A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3B8E5C-2B0D-4DAD-84FB-07B9685E3D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41D269-55D7-459F-97E7-A3A43001BC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63F3D0-D2D5-47A9-9E38-B02C3FC25D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CC4CA7-5C00-40B7-9E2E-9EB02B2AE8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140A29-ED8D-41F0-809B-8CF464E998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DF9DA6-B9A7-43EC-B6DB-A68B9C57FD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3366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336666"/>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9C701-97B0-4594-9ECB-9CDF97CFE28D}" type="slidenum">
              <a:rPr b="0" lang="en-US" sz="1400" spc="-1" strike="noStrike">
                <a:solidFill>
                  <a:srgbClr val="336666"/>
                </a:solidFill>
                <a:latin typeface="Arial"/>
              </a:rPr>
              <a:t>&lt;number&gt;</a:t>
            </a:fld>
            <a:endParaRPr b="0" lang="en-US" sz="1400" spc="-1" strike="noStrike">
              <a:solidFill>
                <a:srgbClr val="000000"/>
              </a:solidFill>
              <a:latin typeface="Times New Roman"/>
            </a:endParaRPr>
          </a:p>
        </p:txBody>
      </p:sp>
      <p:sp>
        <p:nvSpPr>
          <p:cNvPr id="5"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6"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7"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8"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3366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336666"/>
                </a:solidFill>
                <a:latin typeface="Arial"/>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995F1-8EC8-4CE3-9658-6CD3CCFBC09A}" type="slidenum">
              <a:rPr b="0" lang="en-US" sz="1400" spc="-1" strike="noStrike">
                <a:solidFill>
                  <a:srgbClr val="336666"/>
                </a:solidFill>
                <a:latin typeface="Arial"/>
              </a:rPr>
              <a:t>&lt;number&gt;</a:t>
            </a:fld>
            <a:endParaRPr b="0" lang="en-US" sz="1400" spc="-1" strike="noStrike">
              <a:solidFill>
                <a:srgbClr val="000000"/>
              </a:solidFill>
              <a:latin typeface="Times New Roman"/>
            </a:endParaRPr>
          </a:p>
        </p:txBody>
      </p:sp>
      <p:sp>
        <p:nvSpPr>
          <p:cNvPr id="49"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50"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51"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52"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18960" y="609120"/>
            <a:ext cx="6933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新細明體"/>
              </a:rPr>
              <a:t>      </a:t>
            </a:r>
            <a:br>
              <a:rPr sz="4000"/>
            </a:br>
            <a:br>
              <a:rPr sz="4000"/>
            </a:br>
            <a:br>
              <a:rPr sz="4000"/>
            </a:br>
            <a:r>
              <a:rPr b="0" lang="en-US" sz="4000" spc="-1" strike="noStrike">
                <a:solidFill>
                  <a:srgbClr val="000000"/>
                </a:solidFill>
                <a:latin typeface="Arial"/>
                <a:ea typeface="新細明體"/>
              </a:rPr>
              <a:t>       </a:t>
            </a:r>
            <a:r>
              <a:rPr b="0" lang="en-US" sz="4000" spc="-1" strike="noStrike">
                <a:solidFill>
                  <a:srgbClr val="000000"/>
                </a:solidFill>
                <a:latin typeface="Arial"/>
                <a:ea typeface="新細明體"/>
              </a:rPr>
              <a:t>Knowledge Management</a:t>
            </a:r>
            <a:endParaRPr b="0" lang="en-US" sz="4000" spc="-1" strike="noStrike">
              <a:solidFill>
                <a:srgbClr val="000000"/>
              </a:solidFill>
              <a:latin typeface="Arial"/>
            </a:endParaRPr>
          </a:p>
        </p:txBody>
      </p:sp>
      <p:sp>
        <p:nvSpPr>
          <p:cNvPr id="91" name="PlaceHolder 2"/>
          <p:cNvSpPr>
            <a:spLocks noGrp="1"/>
          </p:cNvSpPr>
          <p:nvPr>
            <p:ph type="subTitle"/>
          </p:nvPr>
        </p:nvSpPr>
        <p:spPr>
          <a:xfrm>
            <a:off x="1752480" y="2492280"/>
            <a:ext cx="4572000" cy="26892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新細明體"/>
              </a:rPr>
              <a:t>                 </a:t>
            </a:r>
            <a:r>
              <a:rPr b="0" lang="en-US" sz="3000" spc="-1" strike="noStrike">
                <a:solidFill>
                  <a:srgbClr val="000000"/>
                </a:solidFill>
                <a:latin typeface="Arial"/>
                <a:ea typeface="新細明體"/>
              </a:rPr>
              <a:t>An Introduction</a:t>
            </a:r>
            <a:endParaRPr b="0" lang="en-US" sz="3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med" advTm="8000">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ea typeface="新細明體"/>
              </a:rPr>
              <a:t>Activities of Managing Knowledge</a:t>
            </a:r>
            <a:r>
              <a:rPr b="0" lang="en-US" sz="4200" spc="-1" strike="noStrike">
                <a:solidFill>
                  <a:srgbClr val="000000"/>
                </a:solidFill>
                <a:latin typeface="Arial"/>
                <a:ea typeface="新細明體"/>
              </a:rPr>
              <a:t> </a:t>
            </a:r>
            <a:endParaRPr b="0" lang="en-US" sz="4200" spc="-1" strike="noStrike">
              <a:solidFill>
                <a:srgbClr val="000000"/>
              </a:solidFill>
              <a:latin typeface="Arial"/>
            </a:endParaRPr>
          </a:p>
        </p:txBody>
      </p:sp>
      <p:sp>
        <p:nvSpPr>
          <p:cNvPr id="109" name="PlaceHolder 2"/>
          <p:cNvSpPr>
            <a:spLocks noGrp="1"/>
          </p:cNvSpPr>
          <p:nvPr>
            <p:ph/>
          </p:nvPr>
        </p:nvSpPr>
        <p:spPr>
          <a:xfrm>
            <a:off x="2819160" y="1980720"/>
            <a:ext cx="6095880" cy="4496040"/>
          </a:xfrm>
          <a:prstGeom prst="rect">
            <a:avLst/>
          </a:prstGeom>
          <a:noFill/>
          <a:ln w="0">
            <a:noFill/>
          </a:ln>
        </p:spPr>
        <p:txBody>
          <a:bodyPr lIns="90000" rIns="90000" tIns="46800" bIns="46800" anchor="t">
            <a:normAutofit/>
          </a:bodyPr>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新細明體"/>
              </a:rPr>
              <a:t>Create</a:t>
            </a: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新細明體"/>
              </a:rPr>
              <a:t>Discover</a:t>
            </a: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新細明體"/>
              </a:rPr>
              <a:t>Capture</a:t>
            </a: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新細明體"/>
              </a:rPr>
              <a:t>Distil</a:t>
            </a: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新細明體"/>
              </a:rPr>
              <a:t>Validate</a:t>
            </a: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新細明體"/>
              </a:rPr>
              <a:t>Share</a:t>
            </a: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新細明體"/>
              </a:rPr>
              <a:t>Adapt</a:t>
            </a: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新細明體"/>
              </a:rPr>
              <a:t>Adopt</a:t>
            </a: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新細明體"/>
              </a:rPr>
              <a:t>Transfer</a:t>
            </a: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新細明體"/>
              </a:rPr>
              <a:t>Apply</a:t>
            </a:r>
            <a:endParaRPr b="0" lang="en-US" sz="2600" spc="-1" strike="noStrike">
              <a:solidFill>
                <a:srgbClr val="000000"/>
              </a:solidFill>
              <a:latin typeface="Arial"/>
            </a:endParaRPr>
          </a:p>
        </p:txBody>
      </p:sp>
    </p:spTree>
  </p:cSld>
  <p:transition spd="med" advTm="8000">
    <p:circl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ea typeface="新細明體"/>
              </a:rPr>
              <a:t>Knowledge Management Approaches</a:t>
            </a:r>
            <a:endParaRPr b="0" lang="en-US" sz="3800" spc="-1" strike="noStrike">
              <a:solidFill>
                <a:srgbClr val="000000"/>
              </a:solidFill>
              <a:latin typeface="Arial"/>
            </a:endParaRPr>
          </a:p>
        </p:txBody>
      </p:sp>
      <p:sp>
        <p:nvSpPr>
          <p:cNvPr id="111" name="PlaceHolder 2"/>
          <p:cNvSpPr>
            <a:spLocks noGrp="1"/>
          </p:cNvSpPr>
          <p:nvPr>
            <p:ph/>
          </p:nvPr>
        </p:nvSpPr>
        <p:spPr>
          <a:xfrm>
            <a:off x="2819160" y="1980720"/>
            <a:ext cx="6095880" cy="4496040"/>
          </a:xfrm>
          <a:prstGeom prst="rect">
            <a:avLst/>
          </a:prstGeom>
          <a:noFill/>
          <a:ln w="0">
            <a:noFill/>
          </a:ln>
        </p:spPr>
        <p:txBody>
          <a:bodyPr lIns="90000" rIns="90000" tIns="46800" bIns="46800" anchor="t">
            <a:normAutofit/>
          </a:bodyPr>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新細明體"/>
              </a:rPr>
              <a:t>Self-service – intranet portals; yellow pages; people finder</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新細明體"/>
              </a:rPr>
              <a:t>Networks and Community of Practice – knowledge sharing; learning communities</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新細明體"/>
              </a:rPr>
              <a:t>Facilitated transfer – internal consultants; dedicated facilitators; known experts</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transition spd="med" advTm="8000">
    <p:diamon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ea typeface="新細明體"/>
              </a:rPr>
              <a:t>Sustainable Knowledge Management</a:t>
            </a:r>
            <a:endParaRPr b="0" lang="en-US" sz="3800" spc="-1" strike="noStrike">
              <a:solidFill>
                <a:srgbClr val="000000"/>
              </a:solidFill>
              <a:latin typeface="Arial"/>
            </a:endParaRPr>
          </a:p>
        </p:txBody>
      </p:sp>
      <p:sp>
        <p:nvSpPr>
          <p:cNvPr id="11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新細明體"/>
              </a:rPr>
              <a:t>Unconscious incompetence</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新細明體"/>
              </a:rPr>
              <a:t>Conscious incompetence</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新細明體"/>
              </a:rPr>
              <a:t>Conscious competence</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新細明體"/>
              </a:rPr>
              <a:t>Unconscious competence</a:t>
            </a:r>
            <a:endParaRPr b="0" lang="en-US" sz="3000" spc="-1" strike="noStrike">
              <a:solidFill>
                <a:srgbClr val="000000"/>
              </a:solidFill>
              <a:latin typeface="Arial"/>
            </a:endParaRPr>
          </a:p>
        </p:txBody>
      </p:sp>
    </p:spTree>
  </p:cSld>
  <p:transition spd="med" advTm="8000">
    <p:plus/>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ea typeface="新細明體"/>
              </a:rPr>
              <a:t>Agenda</a:t>
            </a:r>
            <a:endParaRPr b="0" lang="en-US" sz="4200" spc="-1" strike="noStrike">
              <a:solidFill>
                <a:srgbClr val="000000"/>
              </a:solidFill>
              <a:latin typeface="Arial"/>
            </a:endParaRPr>
          </a:p>
        </p:txBody>
      </p:sp>
      <p:sp>
        <p:nvSpPr>
          <p:cNvPr id="9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新細明體"/>
              </a:rPr>
              <a:t>What is knowledge?</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新細明體"/>
              </a:rPr>
              <a:t>What is knowledge management?</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新細明體"/>
              </a:rPr>
              <a:t>Essential components of KM programme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新細明體"/>
              </a:rPr>
              <a:t>Knowledge management approaches</a:t>
            </a:r>
            <a:endParaRPr b="0" lang="en-US" sz="3000" spc="-1" strike="noStrike">
              <a:solidFill>
                <a:srgbClr val="000000"/>
              </a:solidFill>
              <a:latin typeface="Arial"/>
            </a:endParaRPr>
          </a:p>
        </p:txBody>
      </p:sp>
    </p:spTree>
  </p:cSld>
  <p:transition spd="med" advTm="8000">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ea typeface="新細明體"/>
              </a:rPr>
              <a:t>Data, Information, Knowledge</a:t>
            </a:r>
            <a:endParaRPr b="0" lang="en-US" sz="3400" spc="-1" strike="noStrike">
              <a:solidFill>
                <a:srgbClr val="000000"/>
              </a:solidFill>
              <a:latin typeface="Arial"/>
            </a:endParaRPr>
          </a:p>
        </p:txBody>
      </p:sp>
      <p:sp>
        <p:nvSpPr>
          <p:cNvPr id="9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新細明體"/>
              </a:rPr>
              <a:t>Data – raw facts; number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新細明體"/>
              </a:rPr>
              <a:t>Information – data in context; readily captured in documents and database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新細明體"/>
              </a:rPr>
              <a:t>Knowledge – information plus experience to act upon</a:t>
            </a:r>
            <a:endParaRPr b="0" lang="en-US" sz="3000" spc="-1" strike="noStrike">
              <a:solidFill>
                <a:srgbClr val="000000"/>
              </a:solidFill>
              <a:latin typeface="Arial"/>
            </a:endParaRPr>
          </a:p>
        </p:txBody>
      </p:sp>
    </p:spTree>
  </p:cSld>
  <p:transition spd="med" advTm="8000">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ea typeface="新細明體"/>
              </a:rPr>
              <a:t>Intellectual Assets</a:t>
            </a:r>
            <a:endParaRPr b="0" lang="en-US" sz="3800" spc="-1" strike="noStrike">
              <a:solidFill>
                <a:srgbClr val="000000"/>
              </a:solidFill>
              <a:latin typeface="Arial"/>
            </a:endParaRPr>
          </a:p>
        </p:txBody>
      </p:sp>
      <p:sp>
        <p:nvSpPr>
          <p:cNvPr id="9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新細明體"/>
              </a:rPr>
              <a:t>Social capital – relationships with customers, employees, business partners and external experts</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新細明體"/>
              </a:rPr>
              <a:t>Structural capital – patents; brand names; systems and processes; management philosophy</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新細明體"/>
              </a:rPr>
              <a:t>Human capital – education; experience; skills; attitudes</a:t>
            </a:r>
            <a:endParaRPr b="0" lang="en-US" sz="3000" spc="-1" strike="noStrike">
              <a:solidFill>
                <a:srgbClr val="000000"/>
              </a:solidFill>
              <a:latin typeface="Arial"/>
            </a:endParaRPr>
          </a:p>
        </p:txBody>
      </p:sp>
    </p:spTree>
  </p:cSld>
  <p:transition spd="med" advTm="8000">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ea typeface="新細明體"/>
              </a:rPr>
              <a:t>E</a:t>
            </a:r>
            <a:r>
              <a:rPr b="0" lang="en-US" sz="3800" spc="-1" strike="noStrike">
                <a:solidFill>
                  <a:srgbClr val="000000"/>
                </a:solidFill>
                <a:latin typeface="Arial"/>
                <a:ea typeface="新細明體"/>
              </a:rPr>
              <a:t>xplicit and Tacit Knowledge</a:t>
            </a:r>
            <a:endParaRPr b="0" lang="en-US" sz="3800" spc="-1" strike="noStrike">
              <a:solidFill>
                <a:srgbClr val="000000"/>
              </a:solidFill>
              <a:latin typeface="Arial"/>
            </a:endParaRPr>
          </a:p>
        </p:txBody>
      </p:sp>
      <p:sp>
        <p:nvSpPr>
          <p:cNvPr id="9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新細明體"/>
              </a:rPr>
              <a:t>Explicit knowledge – what is recorded; easily identified, articulated, shared and employed</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新細明體"/>
              </a:rPr>
              <a:t>Tacit knowledge – personal; wisdom and experience; context-specific; more difficult to extract and codify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med" advTm="8000">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ea typeface="新細明體"/>
              </a:rPr>
              <a:t>Further Attributes of Knowledge </a:t>
            </a:r>
            <a:endParaRPr b="0" lang="en-US" sz="3800" spc="-1" strike="noStrike">
              <a:solidFill>
                <a:srgbClr val="000000"/>
              </a:solidFill>
              <a:latin typeface="Arial"/>
            </a:endParaRPr>
          </a:p>
        </p:txBody>
      </p:sp>
      <p:sp>
        <p:nvSpPr>
          <p:cNvPr id="10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新細明體"/>
              </a:rPr>
              <a:t>Know-how</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新細明體"/>
              </a:rPr>
              <a:t>Know-why</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新細明體"/>
              </a:rPr>
              <a:t>Know-what</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新細明體"/>
              </a:rPr>
              <a:t>Know-who</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新細明體"/>
              </a:rPr>
              <a:t>Know-where</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新細明體"/>
              </a:rPr>
              <a:t>Know-when</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med" advTm="8000">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ea typeface="新細明體"/>
              </a:rPr>
              <a:t>Organisational vs Individual Knowledge</a:t>
            </a:r>
            <a:endParaRPr b="0" lang="en-US" sz="3800" spc="-1" strike="noStrike">
              <a:solidFill>
                <a:srgbClr val="000000"/>
              </a:solidFill>
              <a:latin typeface="Arial"/>
            </a:endParaRPr>
          </a:p>
        </p:txBody>
      </p:sp>
      <p:sp>
        <p:nvSpPr>
          <p:cNvPr id="10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新細明體"/>
              </a:rPr>
              <a:t>Two issues:</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Corporate knowledge owned by individuals</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Knowledge resides in silos</a:t>
            </a:r>
            <a:endParaRPr b="0" lang="en-US" sz="28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med" advTm="8000">
    <p:checke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800" spc="-1" strike="noStrike">
                <a:solidFill>
                  <a:srgbClr val="000000"/>
                </a:solidFill>
                <a:latin typeface="Arial"/>
                <a:ea typeface="新細明體"/>
              </a:rPr>
              <a:t>“</a:t>
            </a:r>
            <a:r>
              <a:rPr b="0" lang="en-US" sz="3800" spc="-1" strike="noStrike">
                <a:solidFill>
                  <a:srgbClr val="000000"/>
                </a:solidFill>
                <a:latin typeface="Arial"/>
                <a:ea typeface="新細明體"/>
              </a:rPr>
              <a:t>Management” of    Knowledge</a:t>
            </a:r>
            <a:r>
              <a:rPr b="0" lang="en-US" sz="4200" spc="-1" strike="noStrike">
                <a:solidFill>
                  <a:srgbClr val="000000"/>
                </a:solidFill>
                <a:latin typeface="Arial"/>
                <a:ea typeface="新細明體"/>
              </a:rPr>
              <a:t> </a:t>
            </a:r>
            <a:endParaRPr b="0" lang="en-US" sz="4200" spc="-1" strike="noStrike">
              <a:solidFill>
                <a:srgbClr val="000000"/>
              </a:solidFill>
              <a:latin typeface="Arial"/>
            </a:endParaRPr>
          </a:p>
        </p:txBody>
      </p:sp>
      <p:sp>
        <p:nvSpPr>
          <p:cNvPr id="10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新細明體"/>
              </a:rPr>
              <a:t>Knowledge management is an integrated systematic approach to identifying, managing and sharing all of an enterprise’s information assets, including databases, documents, policies, and procedures, as well as previously unarticulated expertise and experience held by individual workers.  Fundamentally it is about making the collective information and experience of an enterprise available to individual worker.</a:t>
            </a:r>
            <a:endParaRPr b="0" lang="en-US" sz="2600" spc="-1" strike="noStrike">
              <a:solidFill>
                <a:srgbClr val="000000"/>
              </a:solidFill>
              <a:latin typeface="Arial"/>
            </a:endParaRPr>
          </a:p>
        </p:txBody>
      </p:sp>
    </p:spTree>
  </p:cSld>
  <p:transition spd="med" advTm="8000">
    <p:randomBa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ea typeface="新細明體"/>
              </a:rPr>
              <a:t>Components of KM Programmes</a:t>
            </a:r>
            <a:r>
              <a:rPr b="0" lang="en-US" sz="4200" spc="-1" strike="noStrike">
                <a:solidFill>
                  <a:srgbClr val="000000"/>
                </a:solidFill>
                <a:latin typeface="Arial"/>
                <a:ea typeface="新細明體"/>
              </a:rPr>
              <a:t> </a:t>
            </a:r>
            <a:endParaRPr b="0" lang="en-US" sz="4200" spc="-1" strike="noStrike">
              <a:solidFill>
                <a:srgbClr val="000000"/>
              </a:solidFill>
              <a:latin typeface="Arial"/>
            </a:endParaRPr>
          </a:p>
        </p:txBody>
      </p:sp>
      <p:sp>
        <p:nvSpPr>
          <p:cNvPr id="10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新細明體"/>
              </a:rPr>
              <a:t>People – communities and networks</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新細明體"/>
              </a:rPr>
              <a:t>Processes – knowledge-enabled</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新細明體"/>
              </a:rPr>
              <a:t>Technology – collaboration, knowledge leverage tools</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新細明體"/>
              </a:rPr>
              <a:t>Content – best practices, internal and external intelligence</a:t>
            </a:r>
            <a:endParaRPr b="0" lang="en-US" sz="2600" spc="-1" strike="noStrike">
              <a:solidFill>
                <a:srgbClr val="000000"/>
              </a:solidFill>
              <a:latin typeface="Arial"/>
            </a:endParaRPr>
          </a:p>
        </p:txBody>
      </p:sp>
    </p:spTree>
  </p:cSld>
  <p:transition spd="med" advTm="8000">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9T09:26:49Z</dcterms:created>
  <dc:creator/>
  <dc:description/>
  <dc:language>en-US</dc:language>
  <cp:lastModifiedBy>Guru</cp:lastModifiedBy>
  <dcterms:modified xsi:type="dcterms:W3CDTF">2010-01-06T11:16:55Z</dcterms:modified>
  <cp:revision>0</cp:revision>
  <dc:subject/>
  <dc:title>Knowledge Management</dc:title>
</cp:coreProperties>
</file>